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BE4E-6E09-4DDC-97AF-BEDF6CF1A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B67C-2F86-473A-B8F8-D67FDD23A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D81C-F10B-4D1D-BD3B-CC9F45B07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08B1-2209-4DF5-9C86-D4E9E9EC4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2019-BE64-47BF-A8CB-40C43D5A6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292F-2D37-4A08-8E7B-5A19FE33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F1CB-3B7D-4C51-AFAE-6F23E84A9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997F-C8BA-40A8-9F9B-9B3A6F0D0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BBB2-290A-484F-949F-1B9F4F20E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AC87-8AEF-4A36-9803-5DB90514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2C52-5A0D-4560-B10A-9FBBC0AA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BED3-F1B5-4645-ACF3-04EC38F3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A0C96-6C6C-4866-A75B-22F6DDF9604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lusPhon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53840" y="13860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19040" y="211788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7391520" y="4572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UI Progra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170640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819520" y="505908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265560" y="14018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3914640" y="139716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t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73392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2973600" y="280368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3042720" y="37180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59480" y="3700440"/>
            <a:ext cx="83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643640" y="27986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Op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3154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809520" y="3154320"/>
            <a:ext cx="83844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3840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589760" y="2798640"/>
            <a:ext cx="81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Medi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438280" y="2925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167640" y="467820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Hand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3154320"/>
            <a:ext cx="114300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40687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038120" y="39924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176560" y="5668920"/>
            <a:ext cx="93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089960" y="5668920"/>
            <a:ext cx="7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5603760" y="467820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or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59056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4038480" y="4982760"/>
            <a:ext cx="6098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483084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48308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2438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4382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980720" y="2438280"/>
            <a:ext cx="11430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71600" y="2362320"/>
            <a:ext cx="60948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304920"/>
            <a:ext cx="32004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Core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23623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4267080" y="2286000"/>
            <a:ext cx="99072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65760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828800" y="27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4038480" y="190476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1972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505320" y="1219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3809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33520" y="1219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2193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914040" y="28195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3505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1295280" y="35812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3124080"/>
            <a:ext cx="83808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676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58672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        </a:t>
            </a: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113760" y="4457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4952880"/>
            <a:ext cx="9907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Accept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5105520"/>
            <a:ext cx="121896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609480" y="60195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609480" y="61718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L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60948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rot="10800000">
            <a:off x="609480" y="64767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151560" y="6172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roces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33520" y="5714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5715000"/>
            <a:ext cx="10666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14479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828800" y="32767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16765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1828800" y="54100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3505320" y="39625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AI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4267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3047760" y="36568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2895480" y="289548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4572000" y="190476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4724280" y="190440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648320" y="1676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1676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3809880" y="35812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380988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32004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541008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105160" y="2590560"/>
            <a:ext cx="6858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733920"/>
            <a:ext cx="83844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334120" y="3429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5257800" y="42670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601992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42670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4343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7315200" y="41911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3886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6629400" y="3886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7010280" y="3809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33526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858000" y="152388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676160" y="15238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15238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438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2666880"/>
            <a:ext cx="3049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629400" y="30481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629400" y="365760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7467480" y="38098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7619760" y="380988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7848720" y="30481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772400" y="24379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7924680" y="3276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924680" y="24379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181120" y="2286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8153280" y="3352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7848000" y="472428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7467480" y="50292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7848720" y="44956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rot="16200000">
            <a:off x="8153280" y="41144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8077320" y="838080"/>
            <a:ext cx="76176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048120" y="91440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3048120" y="914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7962480" y="4838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7848720" y="5334120"/>
            <a:ext cx="91440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Make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594360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8381880" y="5486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723888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6553080" y="5029200"/>
            <a:ext cx="83844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4876920"/>
            <a:ext cx="76176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5638680" y="4724280"/>
            <a:ext cx="60984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  <a:ea typeface="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62481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5105520" y="6095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INGBACK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rot="10800000">
            <a:off x="739152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_B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943600" y="6477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 rot="10800000">
            <a:off x="4343040" y="61718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7238520" y="5334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238880" y="5181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>
            <a:off x="2971800" y="57913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200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73392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6172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66652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5400000">
            <a:off x="1371240" y="624852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1523880" y="624816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200 OK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1676520" y="66294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438280" y="6477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438280" y="6248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6629400" y="59432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48769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Busy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4876560" y="57142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419720" y="54100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594360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6324120" y="5181120"/>
            <a:ext cx="3049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181120" y="5181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028840" y="52578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419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952880" y="4647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72392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895120" y="54100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895480" y="320040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2438280" y="32004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276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276720" y="46483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200400" y="434304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228600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24382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11430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32004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2362320" y="2666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5638680" y="556236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3809880" y="6095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7238880" y="2209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5638680" y="31240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6248520" y="41911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2666880" y="1066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32767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45720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2819520" y="4800240"/>
            <a:ext cx="685800" cy="228600"/>
          </a:xfrm>
          <a:prstGeom prst="hexagon">
            <a:avLst>
              <a:gd name="adj" fmla="val 22222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48769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SY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53341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2971800" y="64008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62485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BACK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1562040" y="44701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8534520" y="3809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8763120" y="99036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200400" y="380880"/>
            <a:ext cx="28195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Media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182880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ILENC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>
            <a:off x="2590920" y="1905120"/>
            <a:ext cx="533160" cy="152280"/>
          </a:xfrm>
          <a:custGeom>
            <a:avLst/>
            <a:gdLst>
              <a:gd name="textAreaLeft" fmla="*/ 0 w 533160"/>
              <a:gd name="textAreaRight" fmla="*/ 533520 w 5331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3429000" y="1828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12408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1828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 rot="10800000">
            <a:off x="3809520" y="2209680"/>
            <a:ext cx="838440" cy="15264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28954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411480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580920" y="2286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514600" y="2286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6400800" y="32767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5181480" y="1905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477120" y="19051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5867280" y="19810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6477120" y="25146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0" y="2743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6095880" y="3429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5943600" y="274320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56386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324480" y="2971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095880" y="24379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105160" y="2286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4800600" y="49528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BOT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981080" y="4876920"/>
            <a:ext cx="8384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5400000">
            <a:off x="20570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36232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4382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438280" y="38098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190476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35812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133720" y="3809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133720" y="2286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632412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324480" y="5029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6705720" y="4572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410080" y="51814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2819520" y="51055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51055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05320" y="51814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4495680" y="51814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 rot="5400000">
            <a:off x="45716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9528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0" y="4114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819160" y="4343400"/>
            <a:ext cx="20574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4952880" y="3809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243828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40384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35053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1148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666880" y="4114440"/>
            <a:ext cx="12193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14800" y="2361960"/>
            <a:ext cx="6858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4572000" y="4724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4114440" y="4266720"/>
            <a:ext cx="6858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5181480" y="48006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5410080" y="38098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410080" y="4038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rot="10800000">
            <a:off x="5867280" y="373356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5638680" y="32763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3581280" y="32767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2514240" y="2362320"/>
            <a:ext cx="106668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Application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1981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2971800" y="24382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2666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3809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24382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3848040" y="1942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umber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809880" y="10666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26708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495680" y="13716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464832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5638680" y="24382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334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6705720" y="2438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 rot="10800000">
            <a:off x="5714640" y="28191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571640" y="2895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 rot="5400000">
            <a:off x="6552720" y="3276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rot="5400000">
            <a:off x="6666840" y="339084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6705720" y="4876920"/>
            <a:ext cx="99036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 rot="5400000">
            <a:off x="3962160" y="32763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3962520" y="40384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3434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693432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800240" y="41911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7162920" y="39625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1904760" y="2819520"/>
            <a:ext cx="205740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 rot="10800000">
            <a:off x="5714640" y="48765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d 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 rot="10800000">
            <a:off x="57146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4495320" y="2895120"/>
            <a:ext cx="1219320" cy="205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4267080" y="4343400"/>
            <a:ext cx="144792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4952880"/>
            <a:ext cx="9907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 rot="5400000">
            <a:off x="1143000" y="33526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1600200" y="38862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36232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jec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0" y="5334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3048120" y="4343040"/>
            <a:ext cx="10666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>
            <a:off x="3886200" y="525780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2971800" y="54100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5562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343400" y="60199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7238880" y="54100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"/>
          <p:cNvGraphicFramePr/>
          <p:nvPr/>
        </p:nvGraphicFramePr>
        <p:xfrm>
          <a:off x="228600" y="1523880"/>
          <a:ext cx="8610480" cy="4752720"/>
        </p:xfrm>
        <a:graphic>
          <a:graphicData uri="http://schemas.openxmlformats.org/drawingml/2006/table">
            <a:tbl>
              <a:tblPr/>
              <a:tblGrid>
                <a:gridCol w="1676520"/>
                <a:gridCol w="1371600"/>
                <a:gridCol w="1066680"/>
                <a:gridCol w="1066680"/>
                <a:gridCol w="1219320"/>
                <a:gridCol w="1143000"/>
                <a:gridCol w="1066680"/>
              </a:tblGrid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ppl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SY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ORDER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nc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l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INGBACK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ce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ess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GUI Display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6-08-07T02:22:34Z</dcterms:modified>
  <cp:revision>33</cp:revision>
  <dc:subject/>
  <dc:title>PowerPoint 프레젠테이션</dc:title>
</cp:coreProperties>
</file>